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7958-47C9-4E2D-B242-B60EF602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88F2-5A3B-46BB-99BE-45210B632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8BCD-F372-461F-9E63-CDFE58106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AE67-2269-425C-97FC-9124B9464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9223-F39C-4E10-9E9E-7B905F6B8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4CB2-BA96-410C-8550-8EF7DFDA6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6697-C089-46C7-9F23-1368C8A26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E7CE-4572-4280-A076-F01F9982F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8015-4AE1-4E2C-A771-3C3AC85AC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25A4-590B-4BD4-B04B-EA9BB6837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C8A2-3FB8-4E09-9D53-0EBEB0180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67F3-A164-4EE2-9D4A-4DA6CA07D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E434-9546-496A-9740-8910860D9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151920"/>
            <a:ext cx="7696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" y="64004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4C03-842B-47CE-95D4-D9BD3E7E1B4D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udy of Microbial Structure: Microscopy and Specimen Prepar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2EB2-F189-44CA-936F-B48AAFC846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g2.4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5726160" cy="5627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5715000"/>
            <a:ext cx="15238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F165-2CF8-4673-8869-ACA4E17D8998}" type="slidenum">
              <a:t>10</a:t>
            </a:fld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Microscope Resolu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ility of a lens to separate or distinguish small objects that are close togeth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velength of light used is major factor in resolu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er wave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eat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FB03-50C9-4F75-B352-04F7181636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le2.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26280" cy="2219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4613400"/>
            <a:ext cx="7864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ing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between the front surface of lens and surface of cover glass or speci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CFFE-6A5F-41DC-B251-15FD2EFFE3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2.5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26280" cy="3560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4600" y="576576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9E86-4D26-4961-B563-93F57D96553B}" type="slidenum">
              <a:t>13</a:t>
            </a:fld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2.6" descr=""/>
          <p:cNvPicPr/>
          <p:nvPr/>
        </p:nvPicPr>
        <p:blipFill>
          <a:blip r:embed="rId1"/>
          <a:stretch/>
        </p:blipFill>
        <p:spPr>
          <a:xfrm>
            <a:off x="507960" y="1325520"/>
            <a:ext cx="812628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4600" y="561348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1590-0A32-4D09-A9BC-2F07D9D742B4}" type="slidenum">
              <a:t>14</a:t>
            </a:fld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ark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bright image of the object against a dark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to observe living, unstained prepar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4B5B-2427-4480-88DD-2A00E9713F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2.7b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16564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80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7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CEC3-4BDC-4DC4-8A7B-F9B0AC003AD3}" type="slidenum">
              <a:t>16</a:t>
            </a:fld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Phase-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hances the contrast between intracellular structures having slight differences in refractive index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F43A-0AA6-48E5-A8A4-E87F3D0C12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0" y="591804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fig2.9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535280" cy="566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F9AC-2E89-4B4E-A752-729B3B1F93CE}" type="slidenum">
              <a:t>18</a:t>
            </a:fld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g2.10" descr=""/>
          <p:cNvPicPr/>
          <p:nvPr/>
        </p:nvPicPr>
        <p:blipFill>
          <a:blip r:embed="rId1"/>
          <a:stretch/>
        </p:blipFill>
        <p:spPr>
          <a:xfrm>
            <a:off x="507960" y="1216080"/>
            <a:ext cx="8126280" cy="442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4240" y="5689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4635-0DC8-4C60-821A-27AFB4D129D0}" type="slidenum">
              <a:t>19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l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0102" descr=""/>
          <p:cNvPicPr/>
          <p:nvPr/>
        </p:nvPicPr>
        <p:blipFill>
          <a:blip r:embed="rId1"/>
          <a:stretch/>
        </p:blipFill>
        <p:spPr>
          <a:xfrm>
            <a:off x="2614680" y="-361800"/>
            <a:ext cx="3914640" cy="758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21E7-5CE5-4E9F-9BA8-B63250278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ifferential Interference 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ates image by detecting differences in refractive indices and thickness of different parts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76A6-596E-4568-BDF9-52FB129AEB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Fluorescence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oses specimen to ultraviolet, violet, or blue ligh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usually stained wit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uorochrom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ows a bright image of the object resulting from the fluorescent light emitted by the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108C-84AE-4201-B886-FA00E87577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ig2.1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099040" cy="58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6000" y="591804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472E-61AA-4004-AABA-86AB1D501680}" type="slidenum">
              <a:t>22</a:t>
            </a:fld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ig2.13cd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248680" cy="441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9960" y="547524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3c and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14AD-7D77-41C4-A24D-AD34CF84F388}" type="slidenum">
              <a:t>23</a:t>
            </a:fld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Preparation and Staining of Specimen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s visibility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ntuates specific morphological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serves specime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4881-66D0-452A-86DA-CEC4A73716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ixation 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internal and external structures are preserved and fixed in posi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organism is killed and firmly attached to microscop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rves overall morphology but not internal struct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s fine cellular substructure and morphology of larger, more delicate organis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8CD1-C75C-48B0-8AFA-E42DCDFE65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y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ke internal and external structures of cell more visible by increasing contrast with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two common featur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romophore grou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mical groups with conjugated double bond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dye its col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ility to bind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9C4D-9BEA-4148-A57B-B3D07601D0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impl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ingle staining agent is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sic dy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re frequently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yes with positive char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crystal viol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88EC-357A-4D77-8346-80851DFA5D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fferential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microorganisms into groups based on their staining proper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Gram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acid-fast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2252-2492-4EDF-A619-EAAD4D85A7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Gram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st widely used differential staining proced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Bacteria into two groups based on differences in cell wall struct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B50D-0DFE-4D91-BB40-23443B2412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scovery of Microorganism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tony van Leeuwenhoek (1632-1723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rst person to observe and describe micro-organisms accurate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fig1.1" descr=""/>
          <p:cNvPicPr/>
          <p:nvPr/>
        </p:nvPicPr>
        <p:blipFill>
          <a:blip r:embed="rId1"/>
          <a:stretch/>
        </p:blipFill>
        <p:spPr>
          <a:xfrm>
            <a:off x="3962520" y="2135160"/>
            <a:ext cx="4495680" cy="310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99680" y="52466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1.1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86D2-5F5D-46A5-B94A-5F8AA2ACF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ig2.14" descr=""/>
          <p:cNvPicPr/>
          <p:nvPr/>
        </p:nvPicPr>
        <p:blipFill>
          <a:blip r:embed="rId1"/>
          <a:stretch/>
        </p:blipFill>
        <p:spPr>
          <a:xfrm>
            <a:off x="2809800" y="457200"/>
            <a:ext cx="5218200" cy="601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84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1371600"/>
            <a:ext cx="1143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    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700360"/>
            <a:ext cx="119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d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3400" y="4986360"/>
            <a:ext cx="167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25240" y="4232160"/>
            <a:ext cx="192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lo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98800" y="5527800"/>
            <a:ext cx="1215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952520" y="5715000"/>
            <a:ext cx="68580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61722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AD49-D158-45DA-A886-ABCBDD4A63FB}" type="slidenum">
              <a:t>30</a:t>
            </a:fld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fig2.15c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132760" cy="4462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4240" y="5765760"/>
            <a:ext cx="159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5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6600" y="5791320"/>
            <a:ext cx="453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Escherichia col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– a gram-negative r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020D-5173-46A5-BCB7-F17690187596}" type="slidenum">
              <a:t>31</a:t>
            </a:fld>
          </a:p>
        </p:txBody>
      </p:sp>
    </p:spTree>
  </p:cSld>
  <p:transition spd="slow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Acid-fast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icularly useful for staining members of the genu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ycobacteriu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tuberculo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tubercul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lepra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lepros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gh lipid content in cell walls is responsible for their staining characteristic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8147-1B73-4ED2-B099-DE7AE88970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gativ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ten used to visualize capsules surrounding bacteri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psules are colorless against a stained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CFE9-6BE5-4801-8495-53C10D4986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or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uble staining techniqu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l endospore is one color and vegetative cell is a different col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agella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dant applied to increase thickness of flagell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475F-3F33-468A-B73A-C01A2B9532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lectro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ams of electrons are used to produce image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velength of electron beam is much shorter than light, resulting in much high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fig2.20b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757680" cy="4343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56880" y="600876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047B-2208-4845-A3DE-68743487D5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Transmission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rons scatter when they pass through thin sections of a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mitted electrons (those that do not scatter) are used to produc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ser regions in specimen, scatter more electrons and appear dark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47A6-0BC3-4A66-83DF-876B762C4D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fig2.23b" descr=""/>
          <p:cNvPicPr/>
          <p:nvPr/>
        </p:nvPicPr>
        <p:blipFill>
          <a:blip r:embed="rId1"/>
          <a:stretch/>
        </p:blipFill>
        <p:spPr>
          <a:xfrm>
            <a:off x="2962440" y="457200"/>
            <a:ext cx="518148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58672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M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5AE1-8204-4183-B888-B4D9FA519DCB}" type="slidenum">
              <a:t>37</a:t>
            </a:fld>
          </a:p>
        </p:txBody>
      </p:sp>
    </p:spTree>
  </p:cSld>
  <p:transition spd="slow"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pecimen Prepara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alogous to procedures used for light microscop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transmission electron microscopy, specimens must be cut very thi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are chemically fixed and stained with electron dense materia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8D7D-6A14-4812-AF39-0A6D36DF12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Other preparation method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dow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ating specimen with a thin film of a heavy met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reeze-etch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eze specimen then fracture along lines of greatest weakness (e.g., membran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7963-B94D-4BCB-879C-147AC0F9FD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 and the Bending of Ligh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ght is refracted (bent) when passing from one medium to anoth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ractive inde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measure of how greatly a substance slows the velocity of ligh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ion and magnitude of bending is determined by the refractive indexes of the two media forming the interfa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DEE7-1C5E-489F-A3AA-6806279DAA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ig2.25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5600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7400" y="607068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A8185-3682-4A7D-A945-E20099645641}" type="slidenum">
              <a:t>40</a:t>
            </a:fld>
          </a:p>
        </p:txBody>
      </p:sp>
    </p:spTree>
  </p:cSld>
  <p:transition spd="slow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18-x05-ebolavirus" descr=""/>
          <p:cNvPicPr/>
          <p:nvPr/>
        </p:nvPicPr>
        <p:blipFill>
          <a:blip r:embed="rId1"/>
          <a:stretch/>
        </p:blipFill>
        <p:spPr>
          <a:xfrm>
            <a:off x="127080" y="507960"/>
            <a:ext cx="8889840" cy="5842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bola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FC5D-4BF0-4247-98D4-177B298B873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1-13b-mutantfruitfly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ly head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EDD1-8B96-4130-96DB-6072F8807B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Scanning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electrons reflected from the surface of a specimen to creat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3-dimensional image of specimen’s surface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6462-1D25-45B1-8A90-3ABA2E15093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fig2.27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5236920" cy="6096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372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DE87-21AA-484D-8A0F-39D1226EB190}" type="slidenum">
              <a:t>44</a:t>
            </a:fld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Newer Techniques i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focal microscop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canning probe microscop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extremely high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be used to observe individual ato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fig2.20b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493800" cy="4038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09160" y="5932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EADA-09F5-4B4A-8FC4-8CC0F9D904E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onfocal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focal scanning laser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ser beam used to illuminate spots on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uter compiles images created from each point to generate a 3-dimensional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5765-4874-484C-98DE-8ABC8086D53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ig2.29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73920" cy="538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5943600"/>
            <a:ext cx="167652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013D-0873-4E42-AA43-9835DE17C0DE}" type="slidenum">
              <a:t>47</a:t>
            </a:fld>
          </a:p>
        </p:txBody>
      </p:sp>
    </p:spTree>
  </p:cSld>
  <p:transition spd="slow"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fig2.30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291440" cy="5048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512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CE3F-B26B-4249-B4FC-6ECB7829DD9E}" type="slidenum">
              <a:t>48</a:t>
            </a:fld>
          </a:p>
        </p:txBody>
      </p:sp>
    </p:spTree>
  </p:cSld>
  <p:transition spd="slow"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anning tunneling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ady current (tunneling current) maintained between microscope probe and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urrent is detected and used to create image of surface of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6202-9CF7-4BA8-8475-F51A6C83E64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 light rays at a specific place called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poi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tance between center of lens and focal point is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ength of lens related to 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 focal 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e magnific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A20D-75AD-4EFD-BA4D-B4C97AA707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tomic force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arp probe moves over surface of specimen at constant distan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onstant distance is detected and used to create ima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B0D1-081E-41D7-8ED0-6697498CEBB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ig2.2" descr=""/>
          <p:cNvPicPr/>
          <p:nvPr/>
        </p:nvPicPr>
        <p:blipFill>
          <a:blip r:embed="rId1"/>
          <a:stretch/>
        </p:blipFill>
        <p:spPr>
          <a:xfrm>
            <a:off x="1447920" y="557280"/>
            <a:ext cx="6248160" cy="574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3880" y="586728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5A2B-7866-4A56-97E6-1A58E86A94CC}" type="slidenum">
              <a:t>6</a:t>
            </a:fld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Ligh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y ty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ight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rk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se-contrast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luorescence microscop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compound microsco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age formed by action of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 len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FA72-EB3C-4F68-9153-4C45DE8E49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Bright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dark image against a brighter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several objective lens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fo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icroscopes remain in focus when objectives are chang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tal magnific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 of the magnifications of the ocular lens and the objective le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4396-A797-4076-951E-A4C0398598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fig2.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26560" cy="549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5943600"/>
            <a:ext cx="17524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B30E-7E6E-4DCB-957A-12ED2CCB80F0}" type="slidenum">
              <a:t>9</a:t>
            </a:fld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9:58:44Z</dcterms:created>
  <dc:creator>John Sherwood</dc:creator>
  <dc:description/>
  <dc:language>en-US</dc:language>
  <cp:lastModifiedBy>Mark S. Davis</cp:lastModifiedBy>
  <dcterms:modified xsi:type="dcterms:W3CDTF">2003-09-04T16:03:31Z</dcterms:modified>
  <cp:revision>15</cp:revision>
  <dc:subject/>
  <dc:title>PowerPoint Presentation  -  Chapter 2</dc:title>
</cp:coreProperties>
</file>